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5AB-CB12-4D34-8152-2DE83AC9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9D8-31D7-4DEB-A9F7-879045B0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D6972-8CE5-4B69-8B67-156D6914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23E93-8DC2-4365-90D8-BD10B63D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E2673-AFE3-46B1-87D2-17A68964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E9A5A-703B-4491-83B6-66CCB5EC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0506D-D079-43F2-A7DD-8357FEF6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2AAF1-5285-42D1-8267-8E5019E9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E0ED2-B646-4353-85CE-7C843D50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732EF-14BC-456A-919A-1D0C9BB4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94EEC-FF1E-47F9-99D5-DE71E1A9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7B2B4-055D-4957-825E-B381FEC1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C55-A832-46B1-B663-F6AAC32C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46D47-41DE-4480-80FE-15C90755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7D281-89A2-4ADA-AFAD-150617D3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90933-FFFF-420D-86AA-727A8B4C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CC293-E3CB-410E-AEA2-DF937A99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D2299-45BA-462A-A303-016D6EDF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DFFAE-ECDE-4438-8D91-22D817F6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E714E-B9B3-443B-A0EE-C0402957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B83A3-13BC-4093-AEDC-734CEAD0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47B4E-FD23-458D-98A6-E83AB538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D1045-5129-4073-885B-A7D860BF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9C0-4D73-430A-BD6E-763BA481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6FAA1-7B59-44EE-AFB4-26C7FF0A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C8835-9BB2-4C47-B66A-D0B5B37F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350EB-B134-4F8C-A266-86325123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5BAB6-0B67-4B95-A690-86E2B93C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6D4BF-B68A-4CDE-9D7F-21087DFC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4B6A1-1506-4702-8DA9-7492446A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91723-9740-4C57-9C1E-625D583F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C10FB-3296-480B-BAAC-511C0BC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98AD5-EB2F-4922-AD27-9B02D62F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D0CA9-248C-4399-97E4-3A87CA6C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C4CE-D4EE-4FB8-9EDB-06726192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A4462-C493-4654-8BA0-2AC47BAC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F1C21-AB49-4793-969F-C0720879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36856-87F0-453B-A502-0939E29A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5B9B6-7DF2-4689-B721-DA26A693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4DD03-5D78-4AF3-9F34-6D379E67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C2C5B-AB43-47F8-9440-334AD013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719CD-D590-4CD0-8E0E-38EE2731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F80F3-25E9-4935-8FDD-506CF299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9294B-8450-456B-9836-438DA729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F4C9E-8449-47A1-80CA-1E2607C8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C23D-EACA-4EB3-85A4-CCD7BB29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39F7A-60D3-45B6-B17B-B056421E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BEA8C-C6AE-40CD-8CDC-DF2EC865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7DA6A-49D2-4F88-9C2D-5B22C989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738D6-1EAB-4AF6-8D5D-639D2A04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FE560-FC91-4480-BE7C-D249C1BF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E9482-F682-4166-9C59-DBEEAA82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74211-19C4-4B58-8E7F-A388AFB6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2A1D9-E4DD-42EA-86B2-283EFDA1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A3C68-2106-4344-9E8B-93B51778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32708-FAA4-405C-ACBD-0E6A7F95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E4C0-266F-44B5-8E47-4B424973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20D4D-3654-4EEE-A91F-C683AF6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52AF5-0891-4A0E-8DBF-DD9E8CF9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EC012-4235-4CBD-BE0A-FE5AFF37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67D65-D499-462D-914B-1CFD419B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5279C-4F94-4FC2-B771-E3B3C698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EBBD1-2EFE-4F1F-9C43-05B88108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8A327-D914-411A-B17B-B387011C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E3612-CAE4-4521-8051-6B71CF39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7AB98-F3D7-4D0C-BA31-C3BDE940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36C7A-A748-46EF-94B0-260291D3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C844-AB29-45A3-8E19-5453C6A4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4B62C-95D5-4F85-9570-A10D3C5E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2903C-0A24-47C6-B7DE-AC6B9BBA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A622C-2B4E-4F6F-BD16-0AB19E12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8B612-BC65-4EBE-A65E-CBCC841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D6AD0-6130-45CD-98FB-11B70500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25A54-3C38-48CE-82EE-2A4E51AC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43D45-C039-48F9-B448-8A302CE2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66E533-28FA-492E-B86C-935889E9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30C99-BF13-4097-BFF3-A336919E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FFC3B-A9F7-457F-B243-99E766D5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6944-A6F1-464D-A9DB-D3C3F039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457A19-548B-4CE8-A7CF-2AA1407E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BA23E-4250-4CF4-81CF-30D3B6DE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BE1AC-6DFC-40BA-903F-7EFA3CA6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D30DD-7F1B-462B-9062-27E4F95B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F1589-01B2-4AFA-8E15-FB827C7A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169B6-7D21-4118-9111-6551DD83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37985-9871-4D86-9698-E24CDE8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E9B44-21B0-4E54-8AE2-BF7EE122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7853D-43E1-4392-9FBF-41AD44A2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CF8F8-FC0F-4101-8BCB-DDD9381D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8BE0-949E-4385-9E06-1680CB25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619CB-E9B3-4991-9D8C-02E74C8F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588FF-78AA-446D-B98C-4B03F9D7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17C4F-3126-49B7-B724-726D14F2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7898C8-8C1E-4F24-8598-607F3C8E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98D06-5366-486B-B951-48EB8B11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F4082-3BF6-42A7-8874-8767F29D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378C4-D8B2-4E2E-9F15-C81FB674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6F7C9-0680-4EC1-A41F-5DB1BA35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AA69A0-4DDA-4CFD-9B46-F4E82AA4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B049A-E632-4B61-98FF-D8721956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73AA-3668-4BAE-AE2B-1EE23714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76C10-17D6-4C04-AAB5-7DF43456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841BC-2809-40CA-80FB-C12842A7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0CB06-5631-468E-9EBC-E97FB238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E2D52-1579-4D7A-AC34-85F7293B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86C2F-3649-4A90-86C1-E3E496A6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3662C9-95BD-415E-BCE8-761BFD85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18456-653D-4F68-9CE9-47567D35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FDAC1-89C8-4725-9324-8E19429D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A4E83-51BB-485F-B78E-BE8E54CE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E51AE-2447-4253-A82E-8C135DB6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547-BA8B-4784-8811-F9CB46BB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F567-C7E4-413F-8214-A8C4ADF3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EA7F9-63B1-4AF8-81BC-ABE7E74F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F2B01-C98E-4C9B-9EBC-C78BB81A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55AF4A-8175-461A-A362-FD2D0209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2A643-B408-4521-933D-5AD16DE4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1B1619-A368-410D-8E7C-67AA2BBA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B00531-F5B4-4A0F-A959-256B6DA2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3CC4F-D999-4DB9-9B68-161D828C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D3CE2-AF64-4612-82EE-F4427712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D84CA0-2F29-4786-8990-F12CC098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0BDAA-1A63-4CC0-A693-C00F2DBF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2AB0-0B8D-4ADE-A28A-82DD0E54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DD8B6D-04B8-4B46-93D6-9DF697F1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D46506-929A-414C-B832-2F74490E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79702F-615D-4A7B-AB94-68AE8015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E64DB-1FB5-40C9-95DA-65695BB5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E700C-496F-43A5-874C-8ABF5A00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82959E-37C4-4DD0-8702-78EDCA0B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96237F-301F-4110-A293-1442C1C5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E09C9-DDFE-43FD-9C5C-03E3C174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F51491-9171-4BF3-A955-45A41A7B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AB8BFC-D53B-484F-BFE5-B962863E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3738-8767-4D63-8994-54F4FC60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6B8B3-A082-4143-B1B2-C7CEC57D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641D9-6760-427B-857C-8536FE50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7E371E-5BA5-4C5C-8DD0-53D6063D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DE01F7-EA4D-462D-888D-B7F3B81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4A13C-DF70-4544-BEAE-F01D989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7914D-3718-434E-BBC2-561EA772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94034-D2F5-4C1F-B9D0-732270F3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7DB5D-4027-45BE-8FD3-8EFA3E54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7C0395-3E55-4BCA-95F6-5F28075B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A81D1D-602D-487D-B913-61663239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FFB7-7D58-48E7-87A1-B5F78949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758433-2CF9-48D5-BE0B-245AEB20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D075F-20DD-4198-8F2A-F35EB74B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2B64D-32B4-4E08-8BE4-E4C2B37D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AA0F92-34CE-4485-AE4F-71FB8B53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2E4BCA-3A52-4426-AFB6-2D7B1A27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76E0D-397A-4519-90F1-3AA1029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6D2FFD-4B2B-44E4-8A09-0C0D153A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E0CF9-590A-4CB5-BAE3-24F42B2E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D0F4F7-DDC5-4BC1-A486-28100FEC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F0820-6311-48B6-901C-DA386362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AF4F-43E6-4630-ADEE-B5AF498B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DDFF64-863A-4954-BB35-E49AFED5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052CF1-F7C2-408D-972E-022553E8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41F8F-DE88-4E1E-B8F6-DE495DD1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177204-3342-4914-9BFA-3C4B2D8E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236186-D963-41B9-9737-12DF3B2F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75953A-1E0F-481A-90CA-8266202F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D4E030-F6AD-4315-80FB-0EFD468F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9150BE-ABC9-41FF-A2DC-5A7CD11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51AD49-BDC1-4EF6-9255-21F58718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7DD7D3-D24D-467A-8C52-C44E2DF5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0B6F4-A50B-41D8-A1E8-35670140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706437-78D3-4F77-8D06-8A5E08E9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9247F9-F244-44B6-AC8D-A8A5CEC3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5EB55F-4B57-4FF0-AC53-CA2EBF7C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3EF2C-1805-4EA1-BF48-9844BE61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51B8B-80A3-4AA1-8104-060A9F55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C3E8-6B59-4705-953F-212A4754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3BA56-FB6F-4CB6-ABF5-9B6079CD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F0A-62CA-4134-8C84-47161FE0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3CC1-5F38-49EC-AAEB-7E6D7FBE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1760-1DF3-4B0E-81A9-5841364F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1374-750C-406F-845C-DAFE3B54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CF1B-E315-4E94-8E69-69B09CF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6655-7D15-4D62-A080-1D343347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B07D-574D-494D-919A-AD895170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8C7FF-85CB-4064-BD70-802306D2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548B2-F074-4D51-8C07-B2A7EEF0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323D-EE74-459A-B80C-7A1FB9CA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D94B-2E2D-4858-A516-805E9943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8EB-8FC1-487A-A260-EA2D84A9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C7B9-0C5D-4463-9F53-2D52E2B1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A0190-DC74-4C09-B700-3677C33B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330B-CFA7-428F-8BE6-100F6073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9443-A8D9-47A1-9D4A-C73EE7C5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70D7-2E21-4D9F-A7AB-C12480C7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B3317-5672-4F94-925B-8E1BCE77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080E3-2B87-4FF7-8452-12C53720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47FF-E5FF-44DA-9479-7E92A0C0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E92C7-3A97-4B97-BD7F-559CDEE7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5EB42-F278-41EE-8468-B2142D02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893-275A-455E-8F9B-48471148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8A74A-4D84-4E9D-8DD1-441B32F3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F0E9E-F3EB-4405-8E42-D9D55A69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BA306-937C-4D85-A61D-47A8B37C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98087-42D1-46F0-8247-DB039867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7850C-0AC4-4967-A845-E8C899AE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F90AC-9A8F-486A-BF47-332673C8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CB046-39D7-45F2-8690-9475B1E1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675E5-D12A-4F6B-8DB3-E1BBFC9F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6AED-B4AC-4752-A585-120EDFE2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0471-C1DB-4388-BD62-69C6B439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B51-4975-4E05-A8C0-3F57904F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07B30-CAD2-4C5D-894C-20183A03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26343-CF93-43DB-8047-0F40810E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055A8-9D6D-4546-AEC9-B64D8F7F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CAAFD-8603-43FE-8A97-065FAAA6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FC5B3-C1C1-4C81-8D52-E28A5530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90FB5-5EC9-4DBA-8C19-916EC40D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6BDAE-FC69-4951-80B4-ADF0E358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350ED-42F2-49E6-AC79-32A79DB8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2E0D1-C4D3-41F7-9E2B-DD927996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BF722-7911-4FCA-B7F3-CBC0C5E0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044-409E-41AC-A0C5-0AD3AEA3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5D026-27B8-41B3-870D-95CD0160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646F5-D5BA-4A9D-B97B-882FBA13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78A1D-A091-45ED-945D-DA208E6A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F6C23-4EC2-4BCD-9E31-27AC796F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62AB7-65A4-4E29-B96D-FD2C4F26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F3386-1B37-4FC6-B5DD-A1322CC9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B5ACD-94E1-4FAF-99F3-E8BB9D90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DCBB8-5B8D-4CED-8B3D-070A7674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27B97-23A5-4B58-88EB-03BBE9E8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21D3E-318C-4067-BFD7-0FD11CF5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7C1-1DC7-4501-84CC-4F44D472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0FE5F-6D13-4B26-B802-DFAE620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B748-ABE7-4F19-896B-AE2817F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7D9C4-CD96-45BE-BAB1-D5F2CC3A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7C9F5-4F6D-46B1-8F8B-197BA51D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A1EE9-321A-480B-8467-6BC2E89A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6AFF6-6EAD-41C4-877B-FFF17BB1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AB358-1123-476A-A410-268146B3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170EC-2F12-4FA2-9AB9-A806A395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7150F-07A3-43B3-B06A-1FA4105D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A5571-A8FD-4965-8CC5-7A5B9BE5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C31-5A45-4A0A-9FE4-EFA07039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6405C-D228-4A95-8B64-F089ADED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B3672-F0BC-4004-843E-E9338DB4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C758F-E9F5-4280-81C0-DA26C0DB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9B16B-ABFF-4C1B-8E67-2A3D5C75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1DB5D-8D83-4F7D-8BF2-DBC32FAE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9B9B8-D6A3-49C6-ACBA-E7A667E3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8D5F5-A3B4-47FD-B495-8D977053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BEB11-8146-43D4-AF77-1B665C1A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05691-2FF4-433A-9F7B-1C8173CE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78514-8323-4105-8083-0832C951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7D5D-2067-4F4C-A18D-57692BC3C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D923-07E6-42D7-868A-87F5C61F14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3FE5-F362-4154-A9D9-6263BD9E9E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CD8F-9981-41A7-A4AC-739E1D150F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B335-EBEE-4B2C-8505-CDC8B8BB4F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CB37-BAF8-4B81-93CB-128A759452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8115-07CA-426A-B719-91143AAB47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8D3E-A6BE-485C-8A62-EE430EB07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7DE1-3E03-4351-AE39-4DCA8DCD0A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C234-D344-4145-BC6F-DE2AE51BE2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17FA-4057-414E-BE64-0BA72CA681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C76A-4E05-49DE-8B13-DD6EC0CFAD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81FA-1E7A-45C8-82F1-9C257E1F7E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5D4F-B077-4CCC-8B2D-864C0F7555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27F4-7F9A-4B2B-9872-1C005CA436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13BE-19EC-4146-B1C8-15773BA172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632D-81B4-482F-BFF1-E4D0657B6C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ADD9-96CA-4373-9020-2816A447C5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FE05-F8C5-4BF9-9522-EC55188B03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1987-C1AA-4251-A588-F9B411C0EA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C567-24EF-4E30-AD40-99F3C4081E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5EBA-EDDC-45E9-A422-46CB7694C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79D1-18E6-48AC-9AB5-C58F37CE57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649A-EB1C-44B4-ADA9-CEC706F42A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2E01-2E02-45A1-B293-E890B759D0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7E54-A456-418A-9907-954B40BF1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4E81-524C-442A-AFCA-C804AFBC25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AD28-D043-4E9E-9890-9BA7E0887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32EE-077A-4358-8353-FC97C186C4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7734-B160-4289-A94D-A39862743B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6EF7-DC02-453D-B85B-5E5DC3B640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88A6-E0F3-4ED3-8E5A-9617640E3D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1A7E-8AF0-4A92-AA19-CE38BB2D15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FCD3-5740-42EC-99E0-1B2DC5990D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E854-8A88-45CD-9DF8-8A3DA80FCC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634C-2607-496C-B661-861004211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3BD8-3A16-4640-8CD8-F031D95E6A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B0DE-B281-4E9B-AEA6-3634CADA8E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32D6-2213-45FB-A003-970615362A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0ECC-1430-4C16-B82B-54DA61B0F8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938320" y="3100320"/>
            <a:ext cx="32673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423720" y="1185840"/>
            <a:ext cx="8296560" cy="4486320"/>
          </a:xfrm>
          <a:prstGeom prst="rect">
            <a:avLst/>
          </a:prstGeom>
          <a:ln w="0">
            <a:noFill/>
          </a:ln>
        </p:spPr>
      </p:pic>
      <p:sp>
        <p:nvSpPr>
          <p:cNvPr id="1068" name="矩形 2"/>
          <p:cNvSpPr/>
          <p:nvPr/>
        </p:nvSpPr>
        <p:spPr>
          <a:xfrm>
            <a:off x="928800" y="1643040"/>
            <a:ext cx="778644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3"/>
          <p:cNvSpPr/>
          <p:nvPr/>
        </p:nvSpPr>
        <p:spPr>
          <a:xfrm>
            <a:off x="571680" y="2071800"/>
            <a:ext cx="778644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4"/>
          <p:cNvSpPr/>
          <p:nvPr/>
        </p:nvSpPr>
        <p:spPr>
          <a:xfrm>
            <a:off x="857160" y="2500200"/>
            <a:ext cx="77868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5"/>
          <p:cNvSpPr/>
          <p:nvPr/>
        </p:nvSpPr>
        <p:spPr>
          <a:xfrm>
            <a:off x="357120" y="2928960"/>
            <a:ext cx="821556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6"/>
          <p:cNvSpPr/>
          <p:nvPr/>
        </p:nvSpPr>
        <p:spPr>
          <a:xfrm>
            <a:off x="571680" y="3357720"/>
            <a:ext cx="807228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7"/>
          <p:cNvSpPr/>
          <p:nvPr/>
        </p:nvSpPr>
        <p:spPr>
          <a:xfrm>
            <a:off x="392040" y="3800520"/>
            <a:ext cx="81806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8"/>
          <p:cNvSpPr/>
          <p:nvPr/>
        </p:nvSpPr>
        <p:spPr>
          <a:xfrm>
            <a:off x="264960" y="4222800"/>
            <a:ext cx="8307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9"/>
          <p:cNvSpPr/>
          <p:nvPr/>
        </p:nvSpPr>
        <p:spPr>
          <a:xfrm>
            <a:off x="357120" y="4643280"/>
            <a:ext cx="228600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10"/>
          <p:cNvSpPr/>
          <p:nvPr/>
        </p:nvSpPr>
        <p:spPr>
          <a:xfrm>
            <a:off x="625320" y="5097600"/>
            <a:ext cx="7944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76200" y="1152360"/>
            <a:ext cx="8391600" cy="45532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4500720" y="857160"/>
            <a:ext cx="1428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2000160" y="3143160"/>
            <a:ext cx="57168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5"/>
          <p:cNvSpPr/>
          <p:nvPr/>
        </p:nvSpPr>
        <p:spPr>
          <a:xfrm>
            <a:off x="4500720" y="3143160"/>
            <a:ext cx="57132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"/>
          <p:cNvSpPr/>
          <p:nvPr/>
        </p:nvSpPr>
        <p:spPr>
          <a:xfrm>
            <a:off x="5715000" y="3143160"/>
            <a:ext cx="92880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7"/>
          <p:cNvSpPr/>
          <p:nvPr/>
        </p:nvSpPr>
        <p:spPr>
          <a:xfrm>
            <a:off x="1214280" y="4429080"/>
            <a:ext cx="100044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"/>
          <p:cNvSpPr/>
          <p:nvPr/>
        </p:nvSpPr>
        <p:spPr>
          <a:xfrm>
            <a:off x="2786040" y="4429080"/>
            <a:ext cx="78588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9"/>
          <p:cNvSpPr/>
          <p:nvPr/>
        </p:nvSpPr>
        <p:spPr>
          <a:xfrm>
            <a:off x="1214280" y="5286240"/>
            <a:ext cx="85752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10"/>
          <p:cNvSpPr/>
          <p:nvPr/>
        </p:nvSpPr>
        <p:spPr>
          <a:xfrm>
            <a:off x="2928960" y="5286240"/>
            <a:ext cx="57132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1"/>
          <p:cNvSpPr/>
          <p:nvPr/>
        </p:nvSpPr>
        <p:spPr>
          <a:xfrm>
            <a:off x="4071960" y="5286240"/>
            <a:ext cx="571320" cy="349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423720" y="1704960"/>
            <a:ext cx="8296560" cy="3448080"/>
          </a:xfrm>
          <a:prstGeom prst="rect">
            <a:avLst/>
          </a:prstGeom>
          <a:ln w="0">
            <a:noFill/>
          </a:ln>
        </p:spPr>
      </p:pic>
      <p:sp>
        <p:nvSpPr>
          <p:cNvPr id="1034" name="矩形 2"/>
          <p:cNvSpPr/>
          <p:nvPr/>
        </p:nvSpPr>
        <p:spPr>
          <a:xfrm>
            <a:off x="1214280" y="2571840"/>
            <a:ext cx="107172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3"/>
          <p:cNvSpPr/>
          <p:nvPr/>
        </p:nvSpPr>
        <p:spPr>
          <a:xfrm>
            <a:off x="3000240" y="2571840"/>
            <a:ext cx="571680" cy="331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4"/>
          <p:cNvSpPr/>
          <p:nvPr/>
        </p:nvSpPr>
        <p:spPr>
          <a:xfrm>
            <a:off x="4929120" y="2571840"/>
            <a:ext cx="85716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5"/>
          <p:cNvSpPr/>
          <p:nvPr/>
        </p:nvSpPr>
        <p:spPr>
          <a:xfrm>
            <a:off x="6286680" y="2571840"/>
            <a:ext cx="142848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6"/>
          <p:cNvSpPr/>
          <p:nvPr/>
        </p:nvSpPr>
        <p:spPr>
          <a:xfrm>
            <a:off x="1285920" y="3000240"/>
            <a:ext cx="1500120" cy="349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7"/>
          <p:cNvSpPr/>
          <p:nvPr/>
        </p:nvSpPr>
        <p:spPr>
          <a:xfrm>
            <a:off x="3429000" y="3000240"/>
            <a:ext cx="85716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"/>
          <p:cNvSpPr/>
          <p:nvPr/>
        </p:nvSpPr>
        <p:spPr>
          <a:xfrm>
            <a:off x="6643800" y="3000240"/>
            <a:ext cx="85716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9"/>
          <p:cNvSpPr/>
          <p:nvPr/>
        </p:nvSpPr>
        <p:spPr>
          <a:xfrm>
            <a:off x="1214280" y="3429000"/>
            <a:ext cx="121464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0"/>
          <p:cNvSpPr/>
          <p:nvPr/>
        </p:nvSpPr>
        <p:spPr>
          <a:xfrm>
            <a:off x="1214280" y="4286160"/>
            <a:ext cx="121464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11"/>
          <p:cNvSpPr/>
          <p:nvPr/>
        </p:nvSpPr>
        <p:spPr>
          <a:xfrm>
            <a:off x="3357720" y="4286160"/>
            <a:ext cx="100008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12"/>
          <p:cNvSpPr/>
          <p:nvPr/>
        </p:nvSpPr>
        <p:spPr>
          <a:xfrm>
            <a:off x="5000760" y="4286160"/>
            <a:ext cx="128592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13"/>
          <p:cNvSpPr/>
          <p:nvPr/>
        </p:nvSpPr>
        <p:spPr>
          <a:xfrm>
            <a:off x="1285920" y="4714920"/>
            <a:ext cx="85716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76280" y="1500120"/>
            <a:ext cx="8191440" cy="385776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1285920" y="2357280"/>
            <a:ext cx="4357800" cy="351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1214280" y="3214800"/>
            <a:ext cx="3214800" cy="350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1214280" y="4071960"/>
            <a:ext cx="3643560" cy="350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1000080" y="4906800"/>
            <a:ext cx="5857920" cy="373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48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286840" cy="51912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2"/>
          <a:stretch/>
        </p:blipFill>
        <p:spPr>
          <a:xfrm>
            <a:off x="642960" y="714240"/>
            <a:ext cx="1200240" cy="409680"/>
          </a:xfrm>
          <a:prstGeom prst="rect">
            <a:avLst/>
          </a:prstGeom>
          <a:ln w="0">
            <a:noFill/>
          </a:ln>
        </p:spPr>
      </p:pic>
      <p:sp>
        <p:nvSpPr>
          <p:cNvPr id="1054" name="矩形 3"/>
          <p:cNvSpPr/>
          <p:nvPr/>
        </p:nvSpPr>
        <p:spPr>
          <a:xfrm>
            <a:off x="3571920" y="1143000"/>
            <a:ext cx="185724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4"/>
          <p:cNvSpPr/>
          <p:nvPr/>
        </p:nvSpPr>
        <p:spPr>
          <a:xfrm>
            <a:off x="1249200" y="2011320"/>
            <a:ext cx="246564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"/>
          <p:cNvSpPr/>
          <p:nvPr/>
        </p:nvSpPr>
        <p:spPr>
          <a:xfrm>
            <a:off x="1000080" y="2857680"/>
            <a:ext cx="990720" cy="331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6"/>
          <p:cNvSpPr/>
          <p:nvPr/>
        </p:nvSpPr>
        <p:spPr>
          <a:xfrm>
            <a:off x="6000840" y="2857680"/>
            <a:ext cx="185724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7"/>
          <p:cNvSpPr/>
          <p:nvPr/>
        </p:nvSpPr>
        <p:spPr>
          <a:xfrm>
            <a:off x="3214800" y="3286080"/>
            <a:ext cx="100008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8"/>
          <p:cNvSpPr/>
          <p:nvPr/>
        </p:nvSpPr>
        <p:spPr>
          <a:xfrm>
            <a:off x="6703920" y="3751200"/>
            <a:ext cx="100008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9"/>
          <p:cNvSpPr/>
          <p:nvPr/>
        </p:nvSpPr>
        <p:spPr>
          <a:xfrm>
            <a:off x="6797520" y="4192560"/>
            <a:ext cx="1511280" cy="330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0"/>
          <p:cNvSpPr/>
          <p:nvPr/>
        </p:nvSpPr>
        <p:spPr>
          <a:xfrm>
            <a:off x="2368440" y="5025960"/>
            <a:ext cx="4071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1"/>
          <p:cNvSpPr/>
          <p:nvPr/>
        </p:nvSpPr>
        <p:spPr>
          <a:xfrm>
            <a:off x="6215040" y="5500800"/>
            <a:ext cx="242892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12"/>
          <p:cNvSpPr/>
          <p:nvPr/>
        </p:nvSpPr>
        <p:spPr>
          <a:xfrm>
            <a:off x="500040" y="5929200"/>
            <a:ext cx="121464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447840" y="1585800"/>
            <a:ext cx="82483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1"/>
          <a:stretch/>
        </p:blipFill>
        <p:spPr>
          <a:xfrm>
            <a:off x="466560" y="1266840"/>
            <a:ext cx="82108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480960" y="1652760"/>
            <a:ext cx="818208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8:3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